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6550B-3CDD-4D43-A597-EA307B0DF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F0159-ABB1-49C1-89B8-ED61BDC27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7D5B7-1E8B-448B-80E8-BF6E7F8A1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5EAED-8CA4-428E-99CD-B527D3DCF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F94F3-0717-40D8-89E6-44335BD1C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34103-EC65-4B44-B802-8E674EBB2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866ED-DC52-4116-877B-CCA1B0983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69269-71E4-4735-83A8-083BB5839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F3209-156B-410F-AF59-4F361DBA2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2D363-12E4-457C-AE38-F7CFD68D7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B4FC4-24D5-4DE9-AE19-40D94F51D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135F9-DC79-4026-AD81-EB837CFA4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67C9F-1232-41D4-A2D3-60D4246D44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1T02:39:00Z</dcterms:created>
  <dc:creator>Patrick J. Mooney</dc:creator>
  <dc:description/>
  <dc:language>en-US</dc:language>
  <cp:lastModifiedBy>Patrick J. Mooney</cp:lastModifiedBy>
  <dcterms:modified xsi:type="dcterms:W3CDTF">2011-12-01T02:40:10Z</dcterms:modified>
  <cp:revision>1</cp:revision>
  <dc:subject/>
  <dc:title>Slide 1</dc:title>
</cp:coreProperties>
</file>